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1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6.wmf" ContentType="image/x-wmf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2818-59FC-4897-80A5-BD59ACAEB7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мы сделали подарок, возник вопрос: нужна ли газета нашей гимназии? Выяснилось, что нуж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быть в курсе всех событий, происходящих в гимназ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ыявления интересных творческих лич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же наша газета способствуют объединению разновозрастных категорий учащих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помогает РЕАЛИЗОВАТЬ ТВОРЧЕСКИ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ТЕНЦИА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даёт возможность донести до читателя что-то важное. Кто хоть раз попробовал себя в роли корреспондента, тот остаётся навсегда. В газете работают много ребят, которые хотят поступить на факультет журналистики, и газета даёт возможность набраться опыта и убедится в том, что их выбор верный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23920" y="4343400"/>
            <a:ext cx="461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ли подарок школе стать молодёжной газетой. Итак, всё по порядку. Сентябрь 2002 года. Школа усиленно готовится к празднованию 15-летия. Нужно было поздравить школу и учителей, работающих в ней. Задумка организовать газету была и ранее, но идея как-то витала в воздухе. Юбилей подтолкнул, тем более произошло важное событие- школа стала гимназией №9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енной проблемой было название газеты, перебрали все словари, в том  числе иностранных слов, вовлечены были многие учителя и дети. Но название, брошенное Самусенко Виктором, между прочим, неожиданно всем понравилось. И сразу вспомнились строки из В.Высоцког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Жираф большой, ему видней!!!». Звучало коротко и ясно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4572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ё с чего то начинается, и наша газета начала своё существование с юбилея школы. У истоков её создания стояли такие люд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льга Мельник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ётр С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ра Апанасен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, действительно, заинтересованы в том, чтобы статьи были интересными, ЧТОБЫ в меру было информации, и чтобы читатель хотел чита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м аспектом также является оформление газет, с чем активно и, как видите, хорошо справляются Марков Максим, Реук Костя, Кочубей Юлия, Бахарева Юлия, за что им огромное спасиб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ловажную роль в газете играют такие ребята ка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опеко Наст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усенко Ви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лдаев Ром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внесли вклад в создание газеты своими заметками и стать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т отметить людей, которые своим терпением, упорством и заинтересованностью непосредственно занимаются выпуском газет. Это, конечно же, руководители Ольга Алексеевна  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етлана Александ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, благодаря общим усилиям наша газета появилась на свет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шей газете есть постоянные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РУБРИК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рубрику «Гимназия: действующие лица» мы приглашаем гостей из педагогического коллектива и задаём вопросы, интересующие наших чит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убрике «Мир моих увлечений» мы пишем о том, чем увлекаются ученики нашей школы. Когда мы думали, как назвать рубрику, в которой будут публиковаться творческие работы ребят, строка из Маяковского «ЭТИ КУЧЕРЯВЫЕ ЛИРИКИ» подошла как нельзя кстат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подумали, что в нашей газете должна быть рубрика с анекдотами, шутками и приколами. Редакция газеты назвала её «Обхохочешься!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и всякая газета мы планируем наше будущее. Вот некоторые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а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</a:rPr>
              <a:t>Печатать статьи во </a:t>
            </a:r>
            <a:r>
              <a:rPr b="0" lang="en-US" sz="1200" spc="-1" strike="noStrike">
                <a:solidFill>
                  <a:srgbClr val="000000"/>
                </a:solidFill>
                <a:latin typeface="Microsoft Sans Serif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Microsoft Sans Serif"/>
              </a:rPr>
              <a:t>взрослой</a:t>
            </a:r>
            <a:r>
              <a:rPr b="0" lang="en-US" sz="1200" spc="-1" strike="noStrike">
                <a:solidFill>
                  <a:srgbClr val="000000"/>
                </a:solidFill>
                <a:latin typeface="Microsoft Sans Serif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Microsoft Sans Serif"/>
              </a:rPr>
              <a:t> газет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</a:rPr>
              <a:t>Развивать отношения  с такими же газетами, обмениваться  опыт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</a:rPr>
              <a:t>Сделать доступным продажу газет всем желающим вне шко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</a:rPr>
              <a:t>Создание на базе гимназии клуба журналистики с социальной направленностью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ё выступление мы хотели закончить небольшим стихотворени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Если мы возьмёмся за газету дружно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ы попадёшь на факта вернисаж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айдёшь там всё, что тебе нужно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азличные статьи, поэзию и репортаж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Широкий простор для мечты и для мысл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ткроют газеты тебе номера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светится мир апельсиновой высью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«Жираф»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- фантазии яркость и слова игра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475F-01DB-42E0-8BC4-A1DDFD9E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D4A5-2E9C-4A67-8C38-8633FC04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2CA7-9285-43D7-9324-04FD5FEA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7479-1C79-411D-A9EF-10D76956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ED4B-A5E6-497E-837D-FAF126D5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C69A-0B9F-4107-8810-D5CDE769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45B8-928A-4498-848D-1B336E18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54B6-4FAA-46CE-B953-5C8D54BD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1E75-D1DE-40DE-9FB8-10493C11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2460-CFEB-4DD8-A7DE-CCDDFEB1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DD83-5510-4600-9BFE-103591E1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365F-73B5-4B90-B73D-B24D1769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38B4-DF71-4705-835E-654C3558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C73C-993D-4B3F-9509-42154FB0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BB99-1C5B-44A0-9E8C-50D181A3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AF9D-841C-43B0-887A-283E6C77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50CF-6C0B-4C50-A587-29A93A1E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51E9-BA8E-4FD1-9477-AEFDBA8D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690F-A98E-4E2E-85F9-3998E708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54E0-1398-4925-9441-F8879589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98B8-152D-451D-8151-378C2786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A1ED-5DF1-4992-BFF4-27391841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6D71-D05E-46C6-AF1B-2D12F9AF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4E17-D081-4BFB-BDAA-2F49C5A4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7EFF-1586-4C98-B188-336C31866DC6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8A2B-F337-48CE-ACEB-0A119CB579BB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8.jpe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26.wmf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543800" y="1676520"/>
            <a:ext cx="1306440" cy="3676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048120" y="2819520"/>
            <a:ext cx="44956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33cc33"/>
                </a:solidFill>
                <a:latin typeface="Comic Sans MS"/>
              </a:rPr>
              <a:t>«ЖИРАФ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6699"/>
                </a:solidFill>
                <a:latin typeface="Monotype Corsiva"/>
              </a:rPr>
              <a:t>гимназия №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905120" y="2133720"/>
            <a:ext cx="1306440" cy="3295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895480" y="304920"/>
            <a:ext cx="48006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Monotype Corsiva"/>
              </a:rPr>
              <a:t>Презентация молодежной газе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828800" y="2362320"/>
            <a:ext cx="56386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6600"/>
                  </a:outerShdw>
                </a:effectLst>
                <a:latin typeface="Arial"/>
              </a:rPr>
              <a:t>КОНЕЦ</a:t>
            </a:r>
            <a:endParaRPr b="0" lang="en-US" sz="2400" spc="1" strike="noStrike">
              <a:ln w="1260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66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52280" y="4114800"/>
            <a:ext cx="8839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006600"/>
                  </a:outerShdw>
                </a:effectLst>
                <a:latin typeface="Arial"/>
              </a:rPr>
              <a:t>спасибо за внимание!</a:t>
            </a:r>
            <a:endParaRPr b="0" lang="en-US" sz="2400" spc="1" strike="noStrike">
              <a:ln w="12600">
                <a:solidFill>
                  <a:srgbClr val="006600"/>
                </a:solidFill>
                <a:miter/>
              </a:ln>
              <a:solidFill>
                <a:srgbClr val="006600"/>
              </a:solidFill>
              <a:effectLst>
                <a:outerShdw dist="40186" dir="1096358" blurRad="0" rotWithShape="0">
                  <a:srgbClr val="0066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666880" y="533520"/>
            <a:ext cx="2362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5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6600"/>
                  </a:outerShdw>
                </a:effectLst>
                <a:latin typeface="Arial"/>
              </a:rPr>
              <a:t>Цели</a:t>
            </a:r>
            <a:endParaRPr b="0" lang="en-US" sz="2400" spc="1" strike="noStrike">
              <a:ln w="1260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66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5486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мочь реализовать свой творческий потенци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16765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Быть в курсе всех событий, происходящих в гимна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27432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Для выявления интересных, творческих лич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36576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Объединение разновозрастных категорий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4724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Систематизация поток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2895480"/>
            <a:ext cx="1789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51280" y="2133720"/>
            <a:ext cx="510552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Повод создания газеты: необычно поздравить школу и её основателей с юбиле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Как же назвать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“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подарок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”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«Эврика!» - воскликнул Самусенко Викт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Почему «Жираф»? Потому что «Жираф большой - ему видней!!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438280" y="533520"/>
            <a:ext cx="5639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6600"/>
                  </a:outerShdw>
                </a:effectLst>
                <a:latin typeface="Arial"/>
              </a:rPr>
              <a:t>Из архива...</a:t>
            </a:r>
            <a:endParaRPr b="0" lang="en-US" sz="2400" spc="1" strike="noStrike">
              <a:ln w="1260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66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228600" y="1828800"/>
            <a:ext cx="3602160" cy="480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8001000" y="2438280"/>
            <a:ext cx="7938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562720" y="1828800"/>
            <a:ext cx="3257280" cy="43434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139" name=""/>
          <p:cNvSpPr txBox="1"/>
          <p:nvPr/>
        </p:nvSpPr>
        <p:spPr>
          <a:xfrm>
            <a:off x="2438280" y="533520"/>
            <a:ext cx="5639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6600"/>
                  </a:outerShdw>
                </a:effectLst>
                <a:latin typeface="Arial"/>
              </a:rPr>
              <a:t>Фабрика "Жираф"</a:t>
            </a:r>
            <a:endParaRPr b="0" lang="en-US" sz="2400" spc="1" strike="noStrike">
              <a:ln w="1260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66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304920" y="1676520"/>
            <a:ext cx="2692440" cy="20192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2286000" y="2133720"/>
            <a:ext cx="3835440" cy="28764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0" y="56674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Times New Roman"/>
              </a:rPr>
              <a:t>Люди, стоящие у истоков создания газе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38098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ров Пё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51814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панасенко И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6276960"/>
            <a:ext cx="358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льникова Оль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19920" y="4191120"/>
            <a:ext cx="2895480" cy="22287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04920" y="4191120"/>
            <a:ext cx="2819160" cy="21654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765760" y="1676520"/>
            <a:ext cx="3149640" cy="23619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304920" y="1676520"/>
            <a:ext cx="3047760" cy="2286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150" name=""/>
          <p:cNvSpPr/>
          <p:nvPr/>
        </p:nvSpPr>
        <p:spPr>
          <a:xfrm rot="20400000">
            <a:off x="3733920" y="1752480"/>
            <a:ext cx="198108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Парни, отвечающие за оформление газет - это Макс и Кост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20400000">
            <a:off x="3353400" y="4647960"/>
            <a:ext cx="25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Наташа и Лера. Незаменимые корреспонденты «Жираф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438280" y="533520"/>
            <a:ext cx="5639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6600"/>
                  </a:outerShdw>
                </a:effectLst>
                <a:latin typeface="Arial"/>
              </a:rPr>
              <a:t>Фабрика "Жираф"</a:t>
            </a:r>
            <a:endParaRPr b="0" lang="en-US" sz="2400" spc="1" strike="noStrike">
              <a:ln w="1260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66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715000" y="3465360"/>
            <a:ext cx="3168720" cy="3087720"/>
          </a:xfrm>
          <a:prstGeom prst="rect">
            <a:avLst/>
          </a:prstGeom>
          <a:ln w="57240">
            <a:solidFill>
              <a:srgbClr val="d4876c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28600" y="3886200"/>
            <a:ext cx="3530520" cy="2647800"/>
          </a:xfrm>
          <a:prstGeom prst="rect">
            <a:avLst/>
          </a:prstGeom>
          <a:ln w="57240">
            <a:solidFill>
              <a:srgbClr val="d4876c"/>
            </a:solidFill>
            <a:miter/>
          </a:ln>
        </p:spPr>
      </p:pic>
      <p:sp>
        <p:nvSpPr>
          <p:cNvPr id="155" name=""/>
          <p:cNvSpPr txBox="1"/>
          <p:nvPr/>
        </p:nvSpPr>
        <p:spPr>
          <a:xfrm>
            <a:off x="2438280" y="533520"/>
            <a:ext cx="5639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6600"/>
                  </a:outerShdw>
                </a:effectLst>
                <a:latin typeface="Arial"/>
              </a:rPr>
              <a:t>Фабрика "Жираф"</a:t>
            </a:r>
            <a:endParaRPr b="0" lang="en-US" sz="2400" spc="1" strike="noStrike">
              <a:ln w="1260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66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3124080" y="3924360"/>
            <a:ext cx="2895840" cy="2171520"/>
          </a:xfrm>
          <a:prstGeom prst="rect">
            <a:avLst/>
          </a:prstGeom>
          <a:ln w="57240">
            <a:solidFill>
              <a:srgbClr val="d4876c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2743200" y="1676520"/>
            <a:ext cx="3124080" cy="2342880"/>
          </a:xfrm>
          <a:prstGeom prst="rect">
            <a:avLst/>
          </a:prstGeom>
          <a:ln w="57240">
            <a:solidFill>
              <a:srgbClr val="d4876c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7848720" y="2666880"/>
            <a:ext cx="1160280" cy="1524240"/>
          </a:xfrm>
          <a:prstGeom prst="rect">
            <a:avLst/>
          </a:prstGeom>
          <a:ln w="57240">
            <a:solidFill>
              <a:srgbClr val="d4876c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228600" y="1523880"/>
            <a:ext cx="2666880" cy="2000520"/>
          </a:xfrm>
          <a:prstGeom prst="rect">
            <a:avLst/>
          </a:prstGeom>
          <a:ln w="57240">
            <a:solidFill>
              <a:srgbClr val="d4876c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5867280" y="1752480"/>
            <a:ext cx="266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Times New Roman"/>
              </a:rPr>
              <a:t>Наши «кучерявые лир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438280" y="533520"/>
            <a:ext cx="5639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6600"/>
                  </a:outerShdw>
                </a:effectLst>
                <a:latin typeface="Arial"/>
              </a:rPr>
              <a:t>Фабрика "Жираф"</a:t>
            </a:r>
            <a:endParaRPr b="0" lang="en-US" sz="2400" spc="1" strike="noStrike">
              <a:ln w="1260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66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990720" y="3162240"/>
            <a:ext cx="3809880" cy="2857680"/>
          </a:xfrm>
          <a:prstGeom prst="rect">
            <a:avLst/>
          </a:prstGeom>
          <a:ln w="57240">
            <a:solidFill>
              <a:srgbClr val="d4876c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5105520" y="2476440"/>
            <a:ext cx="3809880" cy="2857680"/>
          </a:xfrm>
          <a:prstGeom prst="rect">
            <a:avLst/>
          </a:prstGeom>
          <a:ln w="57240">
            <a:solidFill>
              <a:srgbClr val="d4876c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304920" y="152388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Ольга Алексеевна и Светлана Александровна - те, благодаря чьему упорству и заинтересованности существует «Жираф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5486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Светла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6095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Ольг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617220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Самые незаменимые лю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895480" y="1981080"/>
            <a:ext cx="5562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99"/>
              </a:spcBef>
              <a:buClr>
                <a:srgbClr val="00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Narrow"/>
              </a:rPr>
              <a:t>Копилка новосте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528120" indent="-528120">
              <a:spcBef>
                <a:spcPts val="799"/>
              </a:spcBef>
              <a:buClr>
                <a:srgbClr val="00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Narrow"/>
              </a:rPr>
              <a:t>Гимназия: действующие лиц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528120" indent="-528120">
              <a:spcBef>
                <a:spcPts val="799"/>
              </a:spcBef>
              <a:buClr>
                <a:srgbClr val="00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Narrow"/>
              </a:rPr>
              <a:t>Мир моих увлече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528120" indent="-528120">
              <a:spcBef>
                <a:spcPts val="799"/>
              </a:spcBef>
              <a:buClr>
                <a:srgbClr val="00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Narrow"/>
              </a:rPr>
              <a:t>«Эти кучерявые лирики»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528120" indent="-528120">
              <a:spcBef>
                <a:spcPts val="799"/>
              </a:spcBef>
              <a:buClr>
                <a:srgbClr val="00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Narrow"/>
              </a:rPr>
              <a:t>Спорт</a:t>
            </a:r>
            <a:r>
              <a:rPr b="1" lang="en-US" sz="3200" spc="-1" strike="noStrike">
                <a:solidFill>
                  <a:srgbClr val="006600"/>
                </a:solidFill>
                <a:latin typeface="Arial Narrow"/>
              </a:rPr>
              <a:t>&amp;</a:t>
            </a:r>
            <a:r>
              <a:rPr b="1" lang="ru-RU" sz="3200" spc="-1" strike="noStrike">
                <a:solidFill>
                  <a:srgbClr val="006600"/>
                </a:solidFill>
                <a:latin typeface="Arial Narrow"/>
              </a:rPr>
              <a:t> Здоровь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528120" indent="-528120">
              <a:spcBef>
                <a:spcPts val="799"/>
              </a:spcBef>
              <a:buClr>
                <a:srgbClr val="00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Narrow"/>
              </a:rPr>
              <a:t>Размышления по поводу..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528120" indent="-528120">
              <a:spcBef>
                <a:spcPts val="799"/>
              </a:spcBef>
              <a:buClr>
                <a:srgbClr val="00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Narrow"/>
              </a:rPr>
              <a:t>Обхохочешься!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828800" y="533520"/>
            <a:ext cx="73152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6600"/>
                  </a:outerShdw>
                </a:effectLst>
                <a:latin typeface="Arial"/>
              </a:rPr>
              <a:t>О главном... понемногу.</a:t>
            </a:r>
            <a:endParaRPr b="0" lang="en-US" sz="2400" spc="1" strike="noStrike">
              <a:ln w="1260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66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0" y="1523880"/>
            <a:ext cx="2421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3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3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3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3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3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3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3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828800" y="1828800"/>
            <a:ext cx="71629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ечатать статьи во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взрослой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”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газ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Развивать отношения  с такими же газетами, обмениваться  опы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Сделать доступной продажу газет всем желающим вне шк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Создание на базе гимназии клуба журналистики с социальной направлен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438280" y="533520"/>
            <a:ext cx="5639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6600"/>
                  </a:outerShdw>
                </a:effectLst>
                <a:latin typeface="Arial"/>
              </a:rPr>
              <a:t>Планы на будущее</a:t>
            </a:r>
            <a:endParaRPr b="0" lang="en-US" sz="2400" spc="1" strike="noStrike">
              <a:ln w="1260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66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0" y="1600200"/>
            <a:ext cx="1846440" cy="2590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2438280" y="533520"/>
            <a:ext cx="5639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6600"/>
                  </a:outerShdw>
                </a:effectLst>
                <a:latin typeface="Arial"/>
              </a:rPr>
              <a:t>Планы на будущее</a:t>
            </a:r>
            <a:endParaRPr b="0" lang="en-US" sz="2400" spc="1" strike="noStrike">
              <a:ln w="1260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66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500"/>
                            </p:stCondLst>
                            <p:childTnLst>
                              <p:par>
                                <p:cTn id="2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04:31:46Z</dcterms:created>
  <dc:creator>Неизвестный</dc:creator>
  <dc:description/>
  <dc:language>en-US</dc:language>
  <cp:lastModifiedBy>1</cp:lastModifiedBy>
  <cp:lastPrinted>2004-01-30T10:29:42Z</cp:lastPrinted>
  <dcterms:modified xsi:type="dcterms:W3CDTF">2004-01-30T10:30:36Z</dcterms:modified>
  <cp:revision>49</cp:revision>
  <dc:subject/>
  <dc:title>Презентация PowerPoint</dc:title>
</cp:coreProperties>
</file>