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89F-6619-4531-9B5A-6F1260B7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D26-DC5F-490C-A6BD-EF988D21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B46-C06C-4C5D-9286-DEA95BED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106-71DC-412C-B930-CBBD07DE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4A7-F2E3-4CD1-8926-FC83D3E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496-AF73-48D7-922B-80C6EBD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088-269B-4490-A296-FB07BC1F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99F-0F2D-4324-A6FA-7B6DADA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12F-9515-4386-8788-E6880D8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894-5C3C-43EF-8CD3-0481DCA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551-510C-42DF-9282-F87BFD2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597-6C0C-4B19-8552-923CDBD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1927-3F96-4A0F-A042-37BD31E5E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7;&#1083;&#1072;&#1081;&#1076; 3" TargetMode="External"/><Relationship Id="rId2" Type="http://schemas.openxmlformats.org/officeDocument/2006/relationships/hyperlink" Target="258,3,&#1057;&#1083;&#1072;&#1081;&#1076; 3" TargetMode="External"/><Relationship Id="rId3" Type="http://schemas.openxmlformats.org/officeDocument/2006/relationships/hyperlink" Target="259,4,&#1057;&#1083;&#1072;&#1081;&#1076; 4" TargetMode="External"/><Relationship Id="rId4" Type="http://schemas.openxmlformats.org/officeDocument/2006/relationships/hyperlink" Target="259,4,&#1057;&#1083;&#1072;&#1081;&#1076; 4" TargetMode="External"/><Relationship Id="rId5" Type="http://schemas.openxmlformats.org/officeDocument/2006/relationships/hyperlink" Target="259,4,&#1057;&#1083;&#1072;&#1081;&#1076; 4" TargetMode="External"/><Relationship Id="rId6" Type="http://schemas.openxmlformats.org/officeDocument/2006/relationships/hyperlink" Target="259,4,&#1057;&#1083;&#1072;&#1081;&#1076; 4" TargetMode="External"/><Relationship Id="rId7" Type="http://schemas.openxmlformats.org/officeDocument/2006/relationships/hyperlink" Target="260,5,&#1057;&#1083;&#1072;&#1081;&#1076; 5" TargetMode="External"/><Relationship Id="rId8" Type="http://schemas.openxmlformats.org/officeDocument/2006/relationships/hyperlink" Target="261,6,&#1057;&#1083;&#1072;&#1081;&#1076; 6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333360"/>
            <a:ext cx="68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ФЕДРА ИНОСТРАННЫ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ЗЫК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3284640"/>
            <a:ext cx="28479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азия 9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5229360"/>
            <a:ext cx="3695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НОЯРСК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4149720"/>
            <a:ext cx="849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стерова Надежда Николае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высшей категории, учитель-ментор. Закончила Абаканский педагогический институт. Стаж работы – 19 лет. Методическая тема – «Обучение младших школьников английскому языку через сказку». Увлечения – спорт, кулинария, му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292640"/>
            <a:ext cx="8675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влова Надежда Евгеньевна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читель английского и немецкого языков, награждена грамотой Министерства просвещения. Закончила Красноярский педагогический институт. Стаж работы – 41 год. Методическая тема –«Формирование навыков  устной речи на среднем этапе путем внедрения технологии проектирования».  Увлечение – ч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4724280"/>
            <a:ext cx="8569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имко Инна Ивано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английского и французского языков. Закончила Иркутский институт иностранных языков имени Хо Ши Мина. Стаж работы – 22 года. Методическая тема – «Формирование навыков устной речи на среднем этапе обучения путем технологии проектирования». Увлечения – чтение, кулинария, вя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656240" cy="349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4724280"/>
            <a:ext cx="842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хрушева Римма Шавкато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высшей категории. Закончила Магнитогорский педагогический институт. Стаж работы - 27 лет. Методическая тема – «Личностно-ориентированный подход в обучении иностранному языку». Увлечения – чтение, кулинария, спорт, му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185080" cy="3889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4581360"/>
            <a:ext cx="842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мененко Олеся Викторо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английского языка. Закончила Красноярский педагогический колледж. Методическая тема – «Ролевая игра в обучении английскому языку». Увлечения – музыка, чтение, путеше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4797360"/>
            <a:ext cx="8064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адин Николай Львови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английского языка и истории. Закончил Красноярский педагогический университе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лечения – чтение, спорт, исто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6021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49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49" y="20200"/>
                </a:lnTo>
                <a:lnTo>
                  <a:pt x="39049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9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9" h="21600">
                <a:moveTo>
                  <a:pt x="20225" y="3837"/>
                </a:moveTo>
                <a:lnTo>
                  <a:pt x="22801" y="6448"/>
                </a:lnTo>
                <a:lnTo>
                  <a:pt x="22801" y="4707"/>
                </a:lnTo>
                <a:lnTo>
                  <a:pt x="24577" y="4707"/>
                </a:lnTo>
                <a:lnTo>
                  <a:pt x="24577" y="8224"/>
                </a:lnTo>
                <a:lnTo>
                  <a:pt x="27188" y="10800"/>
                </a:lnTo>
                <a:lnTo>
                  <a:pt x="25534" y="10800"/>
                </a:lnTo>
                <a:lnTo>
                  <a:pt x="25534" y="17989"/>
                </a:lnTo>
                <a:lnTo>
                  <a:pt x="14915" y="17989"/>
                </a:lnTo>
                <a:lnTo>
                  <a:pt x="14915" y="10800"/>
                </a:lnTo>
                <a:lnTo>
                  <a:pt x="13262" y="10800"/>
                </a:lnTo>
                <a:close/>
              </a:path>
              <a:path fill="darkenLess" w="40449" h="21600">
                <a:moveTo>
                  <a:pt x="22801" y="6448"/>
                </a:moveTo>
                <a:lnTo>
                  <a:pt x="22801" y="4707"/>
                </a:lnTo>
                <a:lnTo>
                  <a:pt x="24577" y="4707"/>
                </a:lnTo>
                <a:lnTo>
                  <a:pt x="24577" y="8224"/>
                </a:lnTo>
                <a:close/>
              </a:path>
              <a:path fill="darkenLess" w="40449" h="21600">
                <a:moveTo>
                  <a:pt x="19302" y="14299"/>
                </a:moveTo>
                <a:lnTo>
                  <a:pt x="21147" y="14299"/>
                </a:lnTo>
                <a:lnTo>
                  <a:pt x="21147" y="17989"/>
                </a:lnTo>
                <a:lnTo>
                  <a:pt x="25534" y="17989"/>
                </a:lnTo>
                <a:lnTo>
                  <a:pt x="25534" y="10800"/>
                </a:lnTo>
                <a:lnTo>
                  <a:pt x="14915" y="10800"/>
                </a:lnTo>
                <a:lnTo>
                  <a:pt x="14915" y="17989"/>
                </a:lnTo>
                <a:lnTo>
                  <a:pt x="1930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7596360" y="616572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62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образовательное пространство кафедры иностранных языков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133720"/>
            <a:ext cx="799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етодическая тема и задачи кафедры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716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 функции кафе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479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 состав кафе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7740720" y="5950080"/>
            <a:ext cx="1152360" cy="5745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51640" y="5950080"/>
            <a:ext cx="1297080" cy="64764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48" h="21600">
                <a:moveTo>
                  <a:pt x="0" y="0"/>
                </a:moveTo>
                <a:lnTo>
                  <a:pt x="43248" y="0"/>
                </a:lnTo>
                <a:lnTo>
                  <a:pt x="43248" y="21600"/>
                </a:lnTo>
                <a:lnTo>
                  <a:pt x="0" y="21600"/>
                </a:lnTo>
                <a:close/>
              </a:path>
              <a:path fill="lightenLess" w="43248" h="21600">
                <a:moveTo>
                  <a:pt x="0" y="0"/>
                </a:moveTo>
                <a:lnTo>
                  <a:pt x="43248" y="0"/>
                </a:lnTo>
                <a:lnTo>
                  <a:pt x="41848" y="1400"/>
                </a:lnTo>
                <a:lnTo>
                  <a:pt x="1400" y="1400"/>
                </a:lnTo>
                <a:close/>
              </a:path>
              <a:path fill="darken" w="43248" h="21600">
                <a:moveTo>
                  <a:pt x="43248" y="0"/>
                </a:moveTo>
                <a:lnTo>
                  <a:pt x="43248" y="21600"/>
                </a:lnTo>
                <a:lnTo>
                  <a:pt x="41848" y="20200"/>
                </a:lnTo>
                <a:lnTo>
                  <a:pt x="41848" y="1400"/>
                </a:lnTo>
                <a:close/>
              </a:path>
              <a:path fill="darkenLess" w="43248" h="21600">
                <a:moveTo>
                  <a:pt x="4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8" y="20200"/>
                </a:lnTo>
                <a:close/>
              </a:path>
              <a:path fill="lighten" w="4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8" h="21600">
                <a:moveTo>
                  <a:pt x="21624" y="3837"/>
                </a:moveTo>
                <a:lnTo>
                  <a:pt x="24200" y="6448"/>
                </a:lnTo>
                <a:lnTo>
                  <a:pt x="24200" y="4707"/>
                </a:lnTo>
                <a:lnTo>
                  <a:pt x="25976" y="4707"/>
                </a:lnTo>
                <a:lnTo>
                  <a:pt x="25976" y="8224"/>
                </a:lnTo>
                <a:lnTo>
                  <a:pt x="28587" y="10800"/>
                </a:lnTo>
                <a:lnTo>
                  <a:pt x="26933" y="10800"/>
                </a:lnTo>
                <a:lnTo>
                  <a:pt x="26933" y="17989"/>
                </a:lnTo>
                <a:lnTo>
                  <a:pt x="16315" y="17989"/>
                </a:lnTo>
                <a:lnTo>
                  <a:pt x="16315" y="10800"/>
                </a:lnTo>
                <a:lnTo>
                  <a:pt x="14661" y="10800"/>
                </a:lnTo>
                <a:close/>
              </a:path>
              <a:path fill="darkenLess" w="43248" h="21600">
                <a:moveTo>
                  <a:pt x="24200" y="6448"/>
                </a:moveTo>
                <a:lnTo>
                  <a:pt x="24200" y="4707"/>
                </a:lnTo>
                <a:lnTo>
                  <a:pt x="25976" y="4707"/>
                </a:lnTo>
                <a:lnTo>
                  <a:pt x="25976" y="8224"/>
                </a:lnTo>
                <a:close/>
              </a:path>
              <a:path fill="darkenLess" w="43248" h="21600">
                <a:moveTo>
                  <a:pt x="20701" y="14299"/>
                </a:moveTo>
                <a:lnTo>
                  <a:pt x="22547" y="14299"/>
                </a:lnTo>
                <a:lnTo>
                  <a:pt x="22547" y="17989"/>
                </a:lnTo>
                <a:lnTo>
                  <a:pt x="26933" y="17989"/>
                </a:lnTo>
                <a:lnTo>
                  <a:pt x="26933" y="10800"/>
                </a:lnTo>
                <a:lnTo>
                  <a:pt x="16315" y="10800"/>
                </a:lnTo>
                <a:lnTo>
                  <a:pt x="16315" y="17989"/>
                </a:lnTo>
                <a:lnTo>
                  <a:pt x="2070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9960" y="523800"/>
            <a:ext cx="47574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ФЕДРА ИНОСТРАННЫХ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7240" y="1341360"/>
            <a:ext cx="1925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нова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37280" y="1341360"/>
            <a:ext cx="1721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8160" y="1341360"/>
            <a:ext cx="1557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349360"/>
            <a:ext cx="22528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Личнос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500280"/>
            <a:ext cx="22338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Ранне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65300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роф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5589720"/>
            <a:ext cx="22338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70760" y="2421000"/>
            <a:ext cx="19623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РМО и каф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44200" y="3284640"/>
            <a:ext cx="8222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Г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43840" y="4005360"/>
            <a:ext cx="1113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ИПК 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23480" y="2492280"/>
            <a:ext cx="1531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24560" y="3068640"/>
            <a:ext cx="74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Н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23480" y="3716280"/>
            <a:ext cx="1415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Фести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47640" y="981000"/>
            <a:ext cx="5904000" cy="360360"/>
            <a:chOff x="1547640" y="981000"/>
            <a:chExt cx="5904000" cy="360360"/>
          </a:xfrm>
        </p:grpSpPr>
        <p:sp>
          <p:nvSpPr>
            <p:cNvPr id="65" name=""/>
            <p:cNvSpPr/>
            <p:nvPr/>
          </p:nvSpPr>
          <p:spPr>
            <a:xfrm flipH="1">
              <a:off x="1547640" y="981000"/>
              <a:ext cx="266400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1640" y="98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1640" y="981000"/>
              <a:ext cx="324000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5564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9280" y="1989000"/>
            <a:ext cx="503640" cy="3888000"/>
            <a:chOff x="539280" y="1989000"/>
            <a:chExt cx="503640" cy="3888000"/>
          </a:xfrm>
        </p:grpSpPr>
        <p:sp>
          <p:nvSpPr>
            <p:cNvPr id="70" name=""/>
            <p:cNvSpPr/>
            <p:nvPr/>
          </p:nvSpPr>
          <p:spPr>
            <a:xfrm flipH="1">
              <a:off x="539280" y="1989000"/>
              <a:ext cx="71640" cy="38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80" y="2852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393372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9640" y="494172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640" y="58770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80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80000" y="2060640"/>
            <a:ext cx="647640" cy="2089080"/>
            <a:chOff x="3780000" y="2060640"/>
            <a:chExt cx="647640" cy="2089080"/>
          </a:xfrm>
        </p:grpSpPr>
        <p:sp>
          <p:nvSpPr>
            <p:cNvPr id="77" name=""/>
            <p:cNvSpPr/>
            <p:nvPr/>
          </p:nvSpPr>
          <p:spPr>
            <a:xfrm>
              <a:off x="3780000" y="2060640"/>
              <a:ext cx="0" cy="20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80000" y="256536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0000" y="350028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80000" y="414972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04000" y="2060640"/>
            <a:ext cx="504720" cy="1873080"/>
            <a:chOff x="6804000" y="2060640"/>
            <a:chExt cx="504720" cy="1873080"/>
          </a:xfrm>
        </p:grpSpPr>
        <p:sp>
          <p:nvSpPr>
            <p:cNvPr id="82" name=""/>
            <p:cNvSpPr/>
            <p:nvPr/>
          </p:nvSpPr>
          <p:spPr>
            <a:xfrm>
              <a:off x="6804000" y="2060640"/>
              <a:ext cx="0" cy="18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4000" y="2565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4000" y="3284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04000" y="3933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628640"/>
            <a:ext cx="835344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и кафед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- совершенствовать методическую работу среди учителей иностранного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-расширить и углубить преподавание английского языка в гимназ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обобщить опыт и внедрить в практику раннее обучение английскому языку, а также немецкому языку как второму иностранн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- выстроить линию преемственности 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- начать работу по созданию интегрированных курсов для 6-8 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8720" y="6165720"/>
            <a:ext cx="1224000" cy="692280"/>
          </a:xfrm>
          <a:custGeom>
            <a:avLst/>
            <a:gdLst>
              <a:gd name="textAreaLeft" fmla="*/ 44640 w 1224000"/>
              <a:gd name="textAreaRight" fmla="*/ 1179360 w 1224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8182" h="21600">
                <a:moveTo>
                  <a:pt x="0" y="0"/>
                </a:moveTo>
                <a:lnTo>
                  <a:pt x="38182" y="0"/>
                </a:lnTo>
                <a:lnTo>
                  <a:pt x="38182" y="21600"/>
                </a:lnTo>
                <a:lnTo>
                  <a:pt x="0" y="21600"/>
                </a:lnTo>
                <a:close/>
              </a:path>
              <a:path fill="lightenLess" w="38182" h="21600">
                <a:moveTo>
                  <a:pt x="0" y="0"/>
                </a:moveTo>
                <a:lnTo>
                  <a:pt x="38182" y="0"/>
                </a:lnTo>
                <a:lnTo>
                  <a:pt x="36782" y="1400"/>
                </a:lnTo>
                <a:lnTo>
                  <a:pt x="1400" y="1400"/>
                </a:lnTo>
                <a:close/>
              </a:path>
              <a:path fill="darken" w="38182" h="21600">
                <a:moveTo>
                  <a:pt x="38182" y="0"/>
                </a:moveTo>
                <a:lnTo>
                  <a:pt x="38182" y="21600"/>
                </a:lnTo>
                <a:lnTo>
                  <a:pt x="36782" y="20200"/>
                </a:lnTo>
                <a:lnTo>
                  <a:pt x="36782" y="1400"/>
                </a:lnTo>
                <a:close/>
              </a:path>
              <a:path fill="darkenLess" w="38182" h="21600">
                <a:moveTo>
                  <a:pt x="38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82" y="20200"/>
                </a:lnTo>
                <a:close/>
              </a:path>
              <a:path fill="lighten" w="38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82" h="21600">
                <a:moveTo>
                  <a:pt x="19091" y="3837"/>
                </a:moveTo>
                <a:lnTo>
                  <a:pt x="21667" y="6448"/>
                </a:lnTo>
                <a:lnTo>
                  <a:pt x="21667" y="4707"/>
                </a:lnTo>
                <a:lnTo>
                  <a:pt x="23443" y="4707"/>
                </a:lnTo>
                <a:lnTo>
                  <a:pt x="23443" y="8224"/>
                </a:lnTo>
                <a:lnTo>
                  <a:pt x="26054" y="10800"/>
                </a:lnTo>
                <a:lnTo>
                  <a:pt x="24400" y="10800"/>
                </a:lnTo>
                <a:lnTo>
                  <a:pt x="24400" y="17989"/>
                </a:lnTo>
                <a:lnTo>
                  <a:pt x="13782" y="17989"/>
                </a:lnTo>
                <a:lnTo>
                  <a:pt x="13782" y="10800"/>
                </a:lnTo>
                <a:lnTo>
                  <a:pt x="12128" y="10800"/>
                </a:lnTo>
                <a:close/>
              </a:path>
              <a:path fill="darkenLess" w="38182" h="21600">
                <a:moveTo>
                  <a:pt x="21667" y="6448"/>
                </a:moveTo>
                <a:lnTo>
                  <a:pt x="21667" y="4707"/>
                </a:lnTo>
                <a:lnTo>
                  <a:pt x="23443" y="4707"/>
                </a:lnTo>
                <a:lnTo>
                  <a:pt x="23443" y="8224"/>
                </a:lnTo>
                <a:close/>
              </a:path>
              <a:path fill="darkenLess" w="38182" h="21600">
                <a:moveTo>
                  <a:pt x="18168" y="14299"/>
                </a:moveTo>
                <a:lnTo>
                  <a:pt x="20013" y="14299"/>
                </a:lnTo>
                <a:lnTo>
                  <a:pt x="20013" y="17989"/>
                </a:lnTo>
                <a:lnTo>
                  <a:pt x="24400" y="17989"/>
                </a:lnTo>
                <a:lnTo>
                  <a:pt x="24400" y="10800"/>
                </a:lnTo>
                <a:lnTo>
                  <a:pt x="13782" y="10800"/>
                </a:lnTo>
                <a:lnTo>
                  <a:pt x="13782" y="17989"/>
                </a:lnTo>
                <a:lnTo>
                  <a:pt x="1816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6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одическая 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Поиск, разработка и освоение новых технологий и методик в обучении иностранному язы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ункции кафед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ординация и обеспечение научно-исследовательской и проектной работы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методическое обеспечение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44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ривлечение преподавателей педагогического университета для преподавания иностранных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65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учение и отбор передов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97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организация учебно-исследовательск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6021360"/>
            <a:ext cx="1008000" cy="836640"/>
          </a:xfrm>
          <a:custGeom>
            <a:avLst/>
            <a:gdLst>
              <a:gd name="textAreaLeft" fmla="*/ 54000 w 1008000"/>
              <a:gd name="textAreaRight" fmla="*/ 954000 w 1008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022" h="21600">
                <a:moveTo>
                  <a:pt x="0" y="0"/>
                </a:moveTo>
                <a:lnTo>
                  <a:pt x="26022" y="0"/>
                </a:lnTo>
                <a:lnTo>
                  <a:pt x="26022" y="21600"/>
                </a:lnTo>
                <a:lnTo>
                  <a:pt x="0" y="21600"/>
                </a:lnTo>
                <a:close/>
              </a:path>
              <a:path fill="lightenLess" w="26022" h="21600">
                <a:moveTo>
                  <a:pt x="0" y="0"/>
                </a:moveTo>
                <a:lnTo>
                  <a:pt x="26022" y="0"/>
                </a:lnTo>
                <a:lnTo>
                  <a:pt x="24622" y="1400"/>
                </a:lnTo>
                <a:lnTo>
                  <a:pt x="1400" y="1400"/>
                </a:lnTo>
                <a:close/>
              </a:path>
              <a:path fill="darken" w="26022" h="21600">
                <a:moveTo>
                  <a:pt x="26022" y="0"/>
                </a:moveTo>
                <a:lnTo>
                  <a:pt x="26022" y="21600"/>
                </a:lnTo>
                <a:lnTo>
                  <a:pt x="24622" y="20200"/>
                </a:lnTo>
                <a:lnTo>
                  <a:pt x="24622" y="1400"/>
                </a:lnTo>
                <a:close/>
              </a:path>
              <a:path fill="darkenLess" w="26022" h="21600">
                <a:moveTo>
                  <a:pt x="2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2" y="20200"/>
                </a:lnTo>
                <a:close/>
              </a:path>
              <a:path fill="lighten" w="2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2" h="21600">
                <a:moveTo>
                  <a:pt x="13011" y="3837"/>
                </a:moveTo>
                <a:lnTo>
                  <a:pt x="15587" y="6448"/>
                </a:lnTo>
                <a:lnTo>
                  <a:pt x="15587" y="4707"/>
                </a:lnTo>
                <a:lnTo>
                  <a:pt x="17363" y="4707"/>
                </a:lnTo>
                <a:lnTo>
                  <a:pt x="17363" y="8224"/>
                </a:lnTo>
                <a:lnTo>
                  <a:pt x="19974" y="10800"/>
                </a:lnTo>
                <a:lnTo>
                  <a:pt x="18320" y="10800"/>
                </a:lnTo>
                <a:lnTo>
                  <a:pt x="18320" y="17989"/>
                </a:lnTo>
                <a:lnTo>
                  <a:pt x="7702" y="17989"/>
                </a:lnTo>
                <a:lnTo>
                  <a:pt x="7702" y="10800"/>
                </a:lnTo>
                <a:lnTo>
                  <a:pt x="6048" y="10800"/>
                </a:lnTo>
                <a:close/>
              </a:path>
              <a:path fill="darkenLess" w="26022" h="21600">
                <a:moveTo>
                  <a:pt x="15587" y="6448"/>
                </a:moveTo>
                <a:lnTo>
                  <a:pt x="15587" y="4707"/>
                </a:lnTo>
                <a:lnTo>
                  <a:pt x="17363" y="4707"/>
                </a:lnTo>
                <a:lnTo>
                  <a:pt x="17363" y="8224"/>
                </a:lnTo>
                <a:close/>
              </a:path>
              <a:path fill="darkenLess" w="26022" h="21600">
                <a:moveTo>
                  <a:pt x="12089" y="14299"/>
                </a:moveTo>
                <a:lnTo>
                  <a:pt x="13934" y="14299"/>
                </a:lnTo>
                <a:lnTo>
                  <a:pt x="13934" y="17989"/>
                </a:lnTo>
                <a:lnTo>
                  <a:pt x="18320" y="17989"/>
                </a:lnTo>
                <a:lnTo>
                  <a:pt x="18320" y="10800"/>
                </a:lnTo>
                <a:lnTo>
                  <a:pt x="7702" y="10800"/>
                </a:lnTo>
                <a:lnTo>
                  <a:pt x="7702" y="17989"/>
                </a:lnTo>
                <a:lnTo>
                  <a:pt x="1208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716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организация и проведение научно-практических и культурно-массовых мероприятий, направленных на развитие индивидуальных способностей учащихся, обеспечивающих самореализац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08464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частие в комплектовании учебного плана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89720"/>
            <a:ext cx="81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обеспечение профессионального роста и переподготовки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4210200"/>
            <a:ext cx="8424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скова Вера Федоров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высшей категории, Отличник народного просв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чила Пятигорский педагогический институт. Стаж работы – 33 года. Методическая тема – «Обучение устной практике в формате единого государственного экзамена». Увлечения - путешествия, кулин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4328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149720"/>
            <a:ext cx="8496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манова Алена Альбертовна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высшей категории, учитель-мастер, учитель-ментор. Закончила Красноярский педагогический институт. Стаж работы – 6 лет. Победитель конкурса «Учитель года - 2000» в номинации «Артистизм. Лучшая режиссура урока». Методическая тема: «Коммуникативный подход в обучении английскому языку». Увлечения – вязание,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184720" cy="388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4508640"/>
            <a:ext cx="8353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ухова Любовь Михайло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высшей категории. Закончила Красноярский педагогический институт. Стаж работы – 24 года. Методическая тема –« Обучение устной практике в формате единого государственного экзамена Увлечения – ч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4365720"/>
            <a:ext cx="8569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хайлова Ольга Александров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учитель высшей категории, почетный работник общего образования Закончила Красноярский педагогический институт. Стаж работы -20 лет. Методическая тема –« Обучение письму в формате единого государственного экзамена» Увлечения – чтение, компью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07:24:49Z</dcterms:created>
  <dc:creator>Иван</dc:creator>
  <dc:description/>
  <dc:language>en-US</dc:language>
  <cp:lastModifiedBy>Иван</cp:lastModifiedBy>
  <dcterms:modified xsi:type="dcterms:W3CDTF">2004-01-08T13:44:59Z</dcterms:modified>
  <cp:revision>4</cp:revision>
  <dc:subject/>
  <dc:title>Слайд 1</dc:title>
</cp:coreProperties>
</file>