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4.wmf" ContentType="image/x-wmf"/>
  <Override PartName="/ppt/media/image7.jpeg" ContentType="image/jpeg"/>
  <Override PartName="/ppt/media/image5.wmf" ContentType="image/x-wmf"/>
  <Override PartName="/ppt/media/image6.jpeg" ContentType="image/jpeg"/>
  <Override PartName="/ppt/media/image3.png" ContentType="image/png"/>
  <Override PartName="/ppt/media/image11.wmf" ContentType="image/x-wmf"/>
  <Override PartName="/ppt/media/image12.png" ContentType="image/png"/>
  <Override PartName="/ppt/media/image13.wmf" ContentType="image/x-wmf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118-0C20-424B-AB84-45DB1F8A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148-3A83-4235-9A1D-D1DA6FD5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482-2D57-4B61-A3AB-B396FAC7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304-C133-447E-A95F-33BABE9C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7A78-E046-454A-BA4E-B1B7FACF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1B5F-DF78-446F-982E-6E9D2B5C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4A80-7D59-46BA-8C08-60F2AB05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0C19-2272-4E6B-B625-324C2F03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5AB7-4594-47F0-8F30-5479715D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6E1D-2F77-46F0-958C-32B8EB94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2600-5454-45B9-9FC7-793A0858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B35-8AE9-4A2B-AD15-0B037978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1F2B-9D38-4C6C-9E97-FA650370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9CEF-4930-4F34-BB6E-03C3F233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20BA-3208-41C3-9770-C07DC99C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35A5-9F92-4CA6-9534-9AA919B8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98ED-8816-497E-822C-9DB9C6EE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768C-167F-4D9A-9F2F-D7444A1D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89C-96FE-4959-8786-C3ACA6CC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D2B-4D81-4DE3-8D10-DF11B5EE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399-45D7-4149-9AD7-5C0871CE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174-28AB-4E1F-A505-A959FD64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C01-C186-47EE-826D-CEFAC34C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C29-2BC3-4F9C-A8E3-39F446A8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D0E7-1685-4E14-A20F-523BD73345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5B32-BC62-41D2-993A-8993281600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Секция учителей истории и обществознания.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209680" y="25909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Tahoma"/>
              </a:rPr>
              <a:t>Методическая тем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cc6600"/>
                </a:solidFill>
                <a:latin typeface="Tahoma"/>
              </a:rPr>
              <a:t>«Новые педагогические технологии, как средство социализации личности учащихся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PE03166_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2346120" cy="2474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600200" y="2286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ФАКУЛЬТАТИВЫ, СПЕЦК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1143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RED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495680" cy="2943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52280" y="1066680"/>
            <a:ext cx="46483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ерова С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01 г. – «Геополитические проблемы России 20          в.», 10-11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03 г. – «Музееведение», 7-11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04 г. – «Граждановедение», 5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жура Г. 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03 г. – «Государство – основной институт         общества», 10-11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04 г. – «Конституционное право», 10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атаринова С. В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04 г. – «Политология», 10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тепанова Г. 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02 г. – «Граждановедение», 7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Введение в современные социальные проблемы», 8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03 г. – «Граждановедение», 8 к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чала психологии и пррава», 7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04 г. – «Начала психологии и права», 8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BS00554_" descr=""/>
          <p:cNvPicPr/>
          <p:nvPr/>
        </p:nvPicPr>
        <p:blipFill>
          <a:blip r:embed="rId2"/>
          <a:stretch/>
        </p:blipFill>
        <p:spPr>
          <a:xfrm>
            <a:off x="5562720" y="4651200"/>
            <a:ext cx="2527200" cy="2206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676520" y="6858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Участие в НО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ererer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886200" cy="2603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28600" y="1143000"/>
            <a:ext cx="4724280" cy="65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атаринова С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00-2001 уч. г.- секция «Краеведение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Богданова Елена 10Б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I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:«Культурно просветительская деятельность декабристов в Енисейской губерни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01-2002 уч. г. – секция «Обществознание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чушкина Лена 11 кл.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мест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:«Возможность установления диктаторского режима ы общепланитарном масштабе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Лебедева Екатерина – 11 кл.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:«Тенденция развития социальной структуры России на современном этапе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02-2003 уч. г. – секция «Экономика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Чавлытко Александр, Иконникова Юля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1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л.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:«Роль менеджеров в современном мире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толярова Оля 11 кл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ест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:«Проблема социального современной Росси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огожникова Марина, Пикалова Аня 9 кл.,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III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:«Молодёжная (компьютерная) культура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BS00580_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819520" cy="23749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Участие в районных, городских, краевых  олимпиадах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тепанова Г.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002г. – районная «Граждановедение»  Широковский Дима, 1 место, 7 кл.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002г. – краевая Граждановедение»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вский Дима, 2 место, 7 кл.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003г. – районная «Граждановедение»  Кожухов Дима, 1 место, 8 кл.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рков Максим, 3 место, 8 кл.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004г. – районная «Краеведение» Валерианова Таня, 2 место, 9 кл.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атаринова С.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000г. – «Граждановедение»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манова Катя 1 место, 9 кл.; Кузнецова Оля, 2 место, 9 кл.; Маркова Мария, 3 место, 9кл.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001г. – районная «Граждановедение» Романова Катя, 1 место, 10 кл.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001г. – городская, история «Декабристское движение»  Нечушкина Лена, 10 кл., в составе команды железнодорожного района заняла 3 мест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002г. – районная «Граждановедение» Романова Катя, 1 место, 11 кл.; Соловьянов Витя, 2 место, 8 кл.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002г. – районная, история «Отечественная война 1812г.» Новиков Лёня, 1 место, 8 кл.;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huy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243320" cy="282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ы очень рады, что вы посмотрели нашу презентацию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отовы к сотрудничеству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елаем осуществиться вашим планам и мечтам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 новых встреч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4" name="ГЕН.СЕК" descr=""/>
          <p:cNvPicPr/>
          <p:nvPr/>
        </p:nvPicPr>
        <p:blipFill>
          <a:blip r:embed="rId1"/>
          <a:stretch/>
        </p:blipFill>
        <p:spPr>
          <a:xfrm>
            <a:off x="6248520" y="468648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415" name="er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2255760" cy="2859120"/>
          </a:xfrm>
          <a:prstGeom prst="rect">
            <a:avLst/>
          </a:prstGeom>
          <a:ln w="0">
            <a:noFill/>
          </a:ln>
        </p:spPr>
      </p:pic>
      <p:pic>
        <p:nvPicPr>
          <p:cNvPr id="416" name="Степанова" descr=""/>
          <p:cNvPicPr/>
          <p:nvPr/>
        </p:nvPicPr>
        <p:blipFill>
          <a:blip r:embed="rId3"/>
          <a:stretch/>
        </p:blipFill>
        <p:spPr>
          <a:xfrm>
            <a:off x="228600" y="339084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17" name="101-0115_IMG" descr=""/>
          <p:cNvPicPr/>
          <p:nvPr/>
        </p:nvPicPr>
        <p:blipFill>
          <a:blip r:embed="rId4"/>
          <a:stretch/>
        </p:blipFill>
        <p:spPr>
          <a:xfrm>
            <a:off x="2362320" y="35812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80880" y="60958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609588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я ШМО истории и обществознания гимназии №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6600"/>
                </a:solidFill>
                <a:latin typeface="Tahoma"/>
              </a:rPr>
              <a:t>Цель: обеспечить средствами предмета воспитание гражданина и патриота Отечества, ценностно ориентированной личности, способной к самореализации в условиях современной российской социокультурной ситуации.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276360" y="3047760"/>
            <a:ext cx="5562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ормирование у учеников понимания исторического прошлого в связи с тенденцией современного развития России и мира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оспитание современного исторического сознания и развитие самостоятельного персонифицированного мышления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осприятие отечественных и мировых культурных традиций и ценностей прошлого в их связи с настоящим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ормирование исторической грамотности на современном международном уровне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е умения разграничивать процесс познания прошлого и процесс нравственной оценки деяний, поступков людей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0" name="BS02064_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3048120" cy="30337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295280" y="3049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30492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Tahoma"/>
              </a:rPr>
              <a:t>ОБРАЗОВАТЕЛЬНОЕ ПРОСТРАНСТВО УЧИТЕЛЕЙИСТОРИИ И ОБЩЕСТВОЗНАНИЯ ГИМНАЗИИ №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1523880"/>
            <a:ext cx="2895840" cy="68580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КЦИЯ ШМ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1008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9132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43828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48520" y="1447920"/>
            <a:ext cx="26668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выш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валифик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447920"/>
            <a:ext cx="24382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новационна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20574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828440" y="6553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904760" y="2743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3276720"/>
            <a:ext cx="1752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следовательско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ериментальны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ход в работ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904760" y="3581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280" y="2362320"/>
            <a:ext cx="1752840" cy="761760"/>
          </a:xfrm>
          <a:prstGeom prst="foldedCorner">
            <a:avLst>
              <a:gd name="adj" fmla="val 21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муникативн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464832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блемно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флексивны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ход 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ествозна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280" y="6095880"/>
            <a:ext cx="1676520" cy="609840"/>
          </a:xfrm>
          <a:prstGeom prst="octagon">
            <a:avLst>
              <a:gd name="adj" fmla="val 152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ектна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9047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38" idx="3"/>
            <a:endCxn id="350" idx="1"/>
          </p:cNvCxnSpPr>
          <p:nvPr/>
        </p:nvCxnSpPr>
        <p:spPr>
          <a:xfrm flipH="1" rot="16200000">
            <a:off x="6222240" y="2449440"/>
            <a:ext cx="1281600" cy="448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" name=""/>
          <p:cNvSpPr/>
          <p:nvPr/>
        </p:nvSpPr>
        <p:spPr>
          <a:xfrm>
            <a:off x="78487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5720" y="2438280"/>
            <a:ext cx="2286000" cy="533520"/>
          </a:xfrm>
          <a:prstGeom prst="foldedCorner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йонное и шко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ические объеди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86600" y="3048120"/>
            <a:ext cx="1828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рсовая подготов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15200" y="3657600"/>
            <a:ext cx="11430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ПКР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267080"/>
            <a:ext cx="11430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ГП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48520" y="4572000"/>
            <a:ext cx="11430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грарна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кадем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5181480"/>
            <a:ext cx="22096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ссоциация учителей 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ажданское образ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6019920"/>
            <a:ext cx="2133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ститут психолог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педагоки разви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3"/>
            <a:endCxn id="357" idx="6"/>
          </p:cNvCxnSpPr>
          <p:nvPr/>
        </p:nvCxnSpPr>
        <p:spPr>
          <a:xfrm flipH="1">
            <a:off x="8305200" y="3314880"/>
            <a:ext cx="610200" cy="3010320"/>
          </a:xfrm>
          <a:prstGeom prst="bentConnector3">
            <a:avLst>
              <a:gd name="adj1" fmla="val -140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 flipH="1">
            <a:off x="845820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845820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83818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391160" y="4876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2666880"/>
            <a:ext cx="1905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бота 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щими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76920" y="34290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лимпиа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76920" y="42670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00600" y="49528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зейная рабо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571500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еклассная рабо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endCxn id="367" idx="1"/>
          </p:cNvCxnSpPr>
          <p:nvPr/>
        </p:nvCxnSpPr>
        <p:spPr>
          <a:xfrm flipH="1" rot="16200000">
            <a:off x="3219480" y="4476240"/>
            <a:ext cx="27057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44956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95680" y="4419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956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26668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я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32004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38280" y="3352680"/>
            <a:ext cx="144792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ПК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38862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ГП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09680" y="4419720"/>
            <a:ext cx="175284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родско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алитический цент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88584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88584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396216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51055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ссоциация учител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нражданск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88584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3720" y="57913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ество «Знание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6324480"/>
            <a:ext cx="18288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ество «Мемориал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809520" y="5943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96216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90760" y="1066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Степанова Галина Николаевна.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86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итель Истории и обществознания высшей категор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едагогический стаж 23 год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етодическая тема: «Проблемно рефлексивный подход в обучении социальным наукам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уководитель ШМО.за организацию методической работы секции награждена « Почетной грамотой» управления образования железнодорожного район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ботает в семинарах института психологии и педагогики развития по опробации курсов: «Введение в современные социальные проблемы» и «Начала психологии и прав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ает открытые уроки на районных и городских семинарах администрации шко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едет факультатив по граждановедению, члены  его постоянные участники и призеры олимпиад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Степанова" descr=""/>
          <p:cNvPicPr/>
          <p:nvPr/>
        </p:nvPicPr>
        <p:blipFill>
          <a:blip r:embed="rId1"/>
          <a:stretch/>
        </p:blipFill>
        <p:spPr>
          <a:xfrm>
            <a:off x="4343400" y="2494080"/>
            <a:ext cx="4648320" cy="3525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47960" y="9140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Татаринова Снежана Викторовн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итель истории  и обществознание высшей категор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таж педагогической работы 10 лет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етодическая тема: « Применение социологических методов исследования в изучении курса политологии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граждена благодарственным письмом директором института психологии педагогики и управления образования, А.А. Еруловым. За участие в краевом конкурсе методических материалов педагогической практик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вое педагогическое мастерство показывает на семинарах директоров образовательных учреждение города и райо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пециализируется на научной работе учащихся. Ученики Снежаны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икторовны постоянно занимают призовые места на олимпиадах по граждановедению и конференциях НО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кончила курсы по «Интернет – технология в образовании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уководит лекторной группой старшикласников по прав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бедитель в районного конкурса «учитель год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403560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er" descr=""/>
          <p:cNvPicPr/>
          <p:nvPr/>
        </p:nvPicPr>
        <p:blipFill>
          <a:blip r:embed="rId1"/>
          <a:stretch/>
        </p:blipFill>
        <p:spPr>
          <a:xfrm>
            <a:off x="5029200" y="2590920"/>
            <a:ext cx="3187800" cy="4038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05160" y="99072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6600"/>
                </a:solidFill>
                <a:latin typeface="Times New Roman"/>
              </a:rPr>
              <a:t>Серова Светлана Петровна.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809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четный работник общего образования, учитель истории и обществознания  высшей категор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аж педагогической работы 28 ле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уководитель РМО учителей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лен ассоциации учителей « За гражданское образования»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итель - методист ноосферно – экологического образовательного цент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учный  руководитель школьного музея «Наш район – наша гордость»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трудник кафедры «Гуманитарных дисциплин », ИП КР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ическая тема: «Формирование социальных компетенций учащихся через учебную и внеклассную деятельность»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еет печатные работы:  1. «Поиски форм работы с учащимися при формировании социоестественного подхода к изучению истории в Ноосферной школе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Буклет «20 лет Железнодорожному району»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  «Духовное наследие и гражданский подвиг В.Ф. Войно – Ясинецкого, архиепископа Луки »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5" name="101-0115_IMG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4343400" cy="35546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19720" y="11426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Кожура Геннадий Александрович.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итель истории обществознания 1 категор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едагогический стаж 17 л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тодическая тема : «разработка методических приемов преподавания вопросов политической сферы в курсе обществознания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зработал курс : «Государство основной институт общества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итель специализируется на правовом и военно - патриотическом воспитан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дготовленная Геннадием Александровичем команда юношей старшеклассников заняла первое место в районном бреин ринге в честь «Дня защитника Отечества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1995 году был участником районного конкурса «учитель года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8" name="ГЕН.СЕК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3657600" cy="28670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6858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ahoma"/>
                <a:ea typeface="Times New Roman"/>
              </a:rPr>
              <a:t>Повышение квалифик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1143000"/>
            <a:ext cx="9144000" cy="51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КК ИПКР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Степанова Г.Н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1999г. – «Граждановедение в начальной, основной и полной средней школе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2000г. – «Проблемы преподавания истории и обществознания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2002г. – «Актуальные проблемы преподавания истории и обществознания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2002г. – «Университет непрерывного образования – как форма организации методической          работы в школе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2001/2002гг. – Семинар по опробированию курса «Введение в современные социальные проблемы (Институт психологии и педагогики развития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2002/2003гг. – Гуманитарный курс «Начала психологии и права в подростковой школе (годовой семинар). (Институт психологии и педагогики развития)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Кожура Г.А.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2003г. – «Интернет-технологии для учителя-предметника (региональный центр Федерации Интернет Образования)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Татаринова С.В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2002г. – «Актуальные проблемы преподавания истории и обществознания» (КК ИПКРО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2003г. – «Интернет-технологии для учителя предметника»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КК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ПКР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ерова С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03 – «Проблемы становления гражданственности в курсе граждановедения и обществознания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03 – «Интернет-технологии для учителя предметника» (региональный центр Федерация Интернет Образования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04 – «Игровые технологии в гражданском образовании и учиническое самокправление» (Академия педагогических кадров МО РФ.)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05:48:25Z</dcterms:created>
  <dc:creator>ученик</dc:creator>
  <dc:description/>
  <dc:language>en-US</dc:language>
  <cp:lastModifiedBy>ученик</cp:lastModifiedBy>
  <dcterms:modified xsi:type="dcterms:W3CDTF">2004-02-24T07:09:20Z</dcterms:modified>
  <cp:revision>40</cp:revision>
  <dc:subject/>
  <dc:title>Секция учителей истории и обществознания.</dc:title>
</cp:coreProperties>
</file>