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0C4-EE3C-4D57-A26E-279BC470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AD4-3435-4A6D-877B-9825E873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617-96B3-40F3-B2DA-B9FB674B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EC7-37A2-42E7-9CA6-31948859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E892-BCA4-4593-8A11-D219652E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A5F4-8FEC-4E04-94E3-4014F2D5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F6C2-E6B9-455B-ADF4-5B3C2C0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8B3-90BD-4455-9547-5B2CA8CD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B037-CFF9-43C7-AFC4-9858D2BD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AB94-C366-4678-B2F8-60DA2C6F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AC47-2A35-442B-BFB6-CB92F92C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073-6E8B-4257-A72E-7E30E1A9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DD3B-5603-4B77-B227-56F0268F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AC0-93F5-4BBA-B823-79783ED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E727-A9F5-4EC9-BDE3-66F8BA5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C682-D62B-4F3C-8BA7-9C0145D8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8037-1AB0-4B03-AED6-CB988A03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AE8-A012-48AA-9489-200D390F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D7C-F4AB-44BA-8638-224DD89B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FBA-C863-40AA-9FD2-29570E5B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8C0-3A7A-4B58-A6FF-0BACB050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563-9FED-4CF9-94E2-04B4E8A6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238-C716-4E67-BF29-20D02DB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18E-1593-4863-AFAB-176E2D9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E9B-0C48-46E0-961A-56E4D1E2CC0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2387-1A15-4801-B29D-735F37F6D807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-1403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a3d7a"/>
                </a:solidFill>
                <a:latin typeface="Monotype Corsiva"/>
              </a:rPr>
              <a:t>Кафедра естествознания гимназия №9</a:t>
            </a:r>
            <a:endParaRPr b="0" lang="en-US" sz="5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Microsoft Sans Serif"/>
              </a:rPr>
              <a:t>основана 26 сентября 2000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3000">
    <p:blinds dir="horz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Ронжина Татьяна Юрьевн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втор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5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компьютерная поддержка в преподавании хим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Rongina" descr=""/>
          <p:cNvPicPr/>
          <p:nvPr/>
        </p:nvPicPr>
        <p:blipFill>
          <a:blip r:embed="rId1"/>
          <a:stretch/>
        </p:blipFill>
        <p:spPr>
          <a:xfrm>
            <a:off x="5672160" y="2101680"/>
            <a:ext cx="2523960" cy="411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Саламахо Анна Сергеевн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валификационный разряд 9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4 год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пути формирования познавательной активности и привитие интереса к знаниям у учащихся в процессе обучения физик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Solomaxo" descr=""/>
          <p:cNvPicPr/>
          <p:nvPr/>
        </p:nvPicPr>
        <p:blipFill>
          <a:blip r:embed="rId1"/>
          <a:stretch/>
        </p:blipFill>
        <p:spPr>
          <a:xfrm>
            <a:off x="5400720" y="2101680"/>
            <a:ext cx="3066840" cy="411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2a3d7a"/>
                </a:solidFill>
                <a:latin typeface="Times New Roman"/>
              </a:rPr>
              <a:t>Самарцева Ольга Александровна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перв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15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контроль и коррекция уровня логического мышления в системе словесно-диалектического обуч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Samartceva" descr=""/>
          <p:cNvPicPr/>
          <p:nvPr/>
        </p:nvPicPr>
        <p:blipFill>
          <a:blip r:embed="rId1"/>
          <a:stretch/>
        </p:blipFill>
        <p:spPr>
          <a:xfrm>
            <a:off x="5029200" y="26352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Сироткина Людмила Владимировн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втор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7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пути развития валеологического образования в школе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Sirotkina" descr=""/>
          <p:cNvPicPr/>
          <p:nvPr/>
        </p:nvPicPr>
        <p:blipFill>
          <a:blip r:embed="rId1"/>
          <a:stretch/>
        </p:blipFill>
        <p:spPr>
          <a:xfrm>
            <a:off x="5029200" y="212724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Терешкова Елена Юрьевн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втор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6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развитие коммуникативных способностей учащихся через разные формы организации уроков, в том числе КС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Teresckova" descr=""/>
          <p:cNvPicPr/>
          <p:nvPr/>
        </p:nvPicPr>
        <p:blipFill>
          <a:blip r:embed="rId1"/>
          <a:stretch/>
        </p:blipFill>
        <p:spPr>
          <a:xfrm>
            <a:off x="5029200" y="26352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Янгелова Лариса Викторовн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высш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12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образовательные проекты по эколог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lv" descr=""/>
          <p:cNvPicPr/>
          <p:nvPr/>
        </p:nvPicPr>
        <p:blipFill>
          <a:blip r:embed="rId1"/>
          <a:stretch/>
        </p:blipFill>
        <p:spPr>
          <a:xfrm>
            <a:off x="5391000" y="21016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Направления работы кафедр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581280"/>
            <a:ext cx="1295640" cy="19051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Учебно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методическая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работа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3581280"/>
            <a:ext cx="1371600" cy="19051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Организаци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Работы 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учащимис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556080"/>
            <a:ext cx="1371600" cy="190476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Учебно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методическо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и учебно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материально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обеспечени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предмета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541680"/>
            <a:ext cx="1317600" cy="19051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Научно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исследова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тельска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работа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19720" y="3552840"/>
            <a:ext cx="1338480" cy="185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Сотрудни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чество с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институтами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учебно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методическим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учреждениям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554280"/>
            <a:ext cx="1295280" cy="185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Распростра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нение 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обобщени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педагогичес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кого опыта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учител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1371600"/>
            <a:ext cx="762120" cy="22096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371600"/>
            <a:ext cx="762120" cy="22096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90920" y="1371600"/>
            <a:ext cx="2209680" cy="22096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371600"/>
            <a:ext cx="2133720" cy="22096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219320" y="1371600"/>
            <a:ext cx="3581280" cy="22096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1371600"/>
            <a:ext cx="3505320" cy="22096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3000"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Учебно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методическа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работа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7" name="urok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819520" cy="1903680"/>
          </a:xfrm>
          <a:prstGeom prst="rect">
            <a:avLst/>
          </a:prstGeom>
          <a:ln w="0">
            <a:noFill/>
          </a:ln>
        </p:spPr>
      </p:pic>
      <p:pic>
        <p:nvPicPr>
          <p:cNvPr id="148" name="urok-potupchik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819160" cy="1909800"/>
          </a:xfrm>
          <a:prstGeom prst="rect">
            <a:avLst/>
          </a:prstGeom>
          <a:ln w="0">
            <a:noFill/>
          </a:ln>
        </p:spPr>
      </p:pic>
      <p:pic>
        <p:nvPicPr>
          <p:cNvPr id="149" name="kafedra" descr=""/>
          <p:cNvPicPr/>
          <p:nvPr/>
        </p:nvPicPr>
        <p:blipFill>
          <a:blip r:embed="rId3"/>
          <a:stretch/>
        </p:blipFill>
        <p:spPr>
          <a:xfrm>
            <a:off x="1143000" y="3962520"/>
            <a:ext cx="3200400" cy="2073240"/>
          </a:xfrm>
          <a:prstGeom prst="rect">
            <a:avLst/>
          </a:prstGeom>
          <a:ln w="0">
            <a:noFill/>
          </a:ln>
        </p:spPr>
      </p:pic>
      <p:pic>
        <p:nvPicPr>
          <p:cNvPr id="150" name="Z+students" descr=""/>
          <p:cNvPicPr/>
          <p:nvPr/>
        </p:nvPicPr>
        <p:blipFill>
          <a:blip r:embed="rId4"/>
          <a:stretch/>
        </p:blipFill>
        <p:spPr>
          <a:xfrm>
            <a:off x="5715000" y="3962520"/>
            <a:ext cx="2895480" cy="209844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5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Организация работы с учащимися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2" name="deti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3200400" cy="1963800"/>
          </a:xfrm>
          <a:prstGeom prst="rect">
            <a:avLst/>
          </a:prstGeom>
          <a:ln w="0">
            <a:noFill/>
          </a:ln>
        </p:spPr>
      </p:pic>
      <p:pic>
        <p:nvPicPr>
          <p:cNvPr id="153" name="kvn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53040" cy="2605320"/>
          </a:xfrm>
          <a:prstGeom prst="rect">
            <a:avLst/>
          </a:prstGeom>
          <a:ln w="0">
            <a:noFill/>
          </a:ln>
        </p:spPr>
      </p:pic>
      <p:pic>
        <p:nvPicPr>
          <p:cNvPr id="154" name="vruchenie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3048120" cy="210816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Учебно - методическое и учебно - материальное обеспечение предмета</a:t>
            </a:r>
            <a:br>
              <a:rPr sz="14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6" name="kabinet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3031920" cy="3486240"/>
          </a:xfrm>
          <a:prstGeom prst="rect">
            <a:avLst/>
          </a:prstGeom>
          <a:ln w="0">
            <a:noFill/>
          </a:ln>
        </p:spPr>
      </p:pic>
      <p:pic>
        <p:nvPicPr>
          <p:cNvPr id="157" name="kolba" descr=""/>
          <p:cNvPicPr/>
          <p:nvPr/>
        </p:nvPicPr>
        <p:blipFill>
          <a:blip r:embed="rId2"/>
          <a:stretch/>
        </p:blipFill>
        <p:spPr>
          <a:xfrm>
            <a:off x="4876920" y="2133720"/>
            <a:ext cx="3429000" cy="267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Monotype Corsiva"/>
              </a:rPr>
              <a:t>Задачи кафед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рганизация научно-методической помощи учителям. Обеспечение активного овладения учителями новейшими методами, технологиями организации учебно-воспитательного процесс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беспечение высокого уровня учебных занятий, их результативности, индивидуализации и активизации учебного процесса через различные формы учебной деятельности учащихся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рганизация и проведение научно-исследовательской работы сотрудников кафедры. Установление связей и совместная деятельность с вузами и другими учебно-методическими заведениям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Экспертиза педагогической деятельности членов кафедры, её результатов. Изучение, обобщение и распространение опыта учителей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3000">
    <p:blinds dir="horz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Научно - исследовательская работа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9" name="nou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29000" cy="2452680"/>
          </a:xfrm>
          <a:prstGeom prst="rect">
            <a:avLst/>
          </a:prstGeom>
          <a:ln w="0">
            <a:noFill/>
          </a:ln>
        </p:spPr>
      </p:pic>
      <p:pic>
        <p:nvPicPr>
          <p:cNvPr id="160" name="flouwers" descr=""/>
          <p:cNvPicPr/>
          <p:nvPr/>
        </p:nvPicPr>
        <p:blipFill>
          <a:blip r:embed="rId2"/>
          <a:stretch/>
        </p:blipFill>
        <p:spPr>
          <a:xfrm>
            <a:off x="5867280" y="1523880"/>
            <a:ext cx="2909880" cy="3714840"/>
          </a:xfrm>
          <a:prstGeom prst="rect">
            <a:avLst/>
          </a:prstGeom>
          <a:ln w="0">
            <a:noFill/>
          </a:ln>
        </p:spPr>
      </p:pic>
      <p:pic>
        <p:nvPicPr>
          <p:cNvPr id="161" name="vmeste" descr=""/>
          <p:cNvPicPr/>
          <p:nvPr/>
        </p:nvPicPr>
        <p:blipFill>
          <a:blip r:embed="rId3"/>
          <a:stretch/>
        </p:blipFill>
        <p:spPr>
          <a:xfrm>
            <a:off x="2743200" y="3200400"/>
            <a:ext cx="3352680" cy="278748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4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Сотрудничество с институтами, учебно- методическими учреждениями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3" name="students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200400" cy="2757600"/>
          </a:xfrm>
          <a:prstGeom prst="rect">
            <a:avLst/>
          </a:prstGeom>
          <a:ln w="0">
            <a:noFill/>
          </a:ln>
        </p:spPr>
      </p:pic>
      <p:pic>
        <p:nvPicPr>
          <p:cNvPr id="164" name="kola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65" name="vera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352680" cy="25812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4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Распространение и обобщение педагогического опыта учителя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7" name="novie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29080" cy="2685960"/>
          </a:xfrm>
          <a:prstGeom prst="rect">
            <a:avLst/>
          </a:prstGeom>
          <a:ln w="0">
            <a:noFill/>
          </a:ln>
        </p:spPr>
      </p:pic>
      <p:pic>
        <p:nvPicPr>
          <p:cNvPr id="168" name="Uchitel_Goda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287880" cy="2089080"/>
          </a:xfrm>
          <a:prstGeom prst="rect">
            <a:avLst/>
          </a:prstGeom>
          <a:ln w="0">
            <a:noFill/>
          </a:ln>
        </p:spPr>
      </p:pic>
      <p:pic>
        <p:nvPicPr>
          <p:cNvPr id="169" name="ZubkovaN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Monotype Corsiva"/>
              </a:rPr>
              <a:t>Методическая тема кафед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MathSoftText"/>
              </a:rPr>
              <a:t>Исследование форм и методов в развитии самостоятельности учащихся в учебной деятель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3000">
    <p:blinds dir="horz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MathSoftText"/>
              </a:rPr>
              <a:t>Зубкова Надежда Ивановн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Зав.кафедрой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тличник народного просвещения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Заслуженный учитель РФ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ндидат педагогических наук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 – высшая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28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учебной деятельности учащихся при обучении биолог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Zubkova" descr=""/>
          <p:cNvPicPr/>
          <p:nvPr/>
        </p:nvPicPr>
        <p:blipFill>
          <a:blip r:embed="rId1"/>
          <a:stretch/>
        </p:blipFill>
        <p:spPr>
          <a:xfrm>
            <a:off x="1487520" y="2101680"/>
            <a:ext cx="2968560" cy="411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Борсук Татьяна Владимировн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перв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16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активизация познавательных способностей учащихся при изучении новой тем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borsuk" descr=""/>
          <p:cNvPicPr/>
          <p:nvPr/>
        </p:nvPicPr>
        <p:blipFill>
          <a:blip r:embed="rId1"/>
          <a:stretch/>
        </p:blipFill>
        <p:spPr>
          <a:xfrm>
            <a:off x="5514840" y="2101680"/>
            <a:ext cx="2838600" cy="411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Ильина Инесса Владимировн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тличник народного просвещени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высш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40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повышение качества знаний через решение зада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ilina" descr=""/>
          <p:cNvPicPr/>
          <p:nvPr/>
        </p:nvPicPr>
        <p:blipFill>
          <a:blip r:embed="rId1"/>
          <a:stretch/>
        </p:blipFill>
        <p:spPr>
          <a:xfrm>
            <a:off x="5391000" y="21016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Коноплёв Арсений Васильевич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Лауреат премии Сорос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втор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30 ле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активизация познавательной деятельности учащихся через эксперимен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konoplev" descr=""/>
          <p:cNvPicPr/>
          <p:nvPr/>
        </p:nvPicPr>
        <p:blipFill>
          <a:blip r:embed="rId1"/>
          <a:stretch/>
        </p:blipFill>
        <p:spPr>
          <a:xfrm>
            <a:off x="5389560" y="21016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Лыкова Елена Викторовн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валификационный разряд - 9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2 год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дифференцированное обучение на уроках хим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Lykova" descr=""/>
          <p:cNvPicPr/>
          <p:nvPr/>
        </p:nvPicPr>
        <p:blipFill>
          <a:blip r:embed="rId1"/>
          <a:stretch/>
        </p:blipFill>
        <p:spPr>
          <a:xfrm>
            <a:off x="1554120" y="2101680"/>
            <a:ext cx="2835360" cy="41148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Потупчик Татьяна Петровн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тегория-высша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Педагогический стаж 23 год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b5249"/>
                </a:solidFill>
                <a:uFillTx/>
                <a:latin typeface="Times New Roman"/>
              </a:rPr>
              <a:t>Методическая тема: </a:t>
            </a:r>
            <a:r>
              <a:rPr b="0" i="1" lang="ru-RU" sz="2000" spc="-1" strike="noStrike">
                <a:solidFill>
                  <a:srgbClr val="5b5249"/>
                </a:solidFill>
                <a:latin typeface="Times New Roman"/>
              </a:rPr>
              <a:t>использование игровых форм на уроках географии и эконом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100-0024_IMG" descr=""/>
          <p:cNvPicPr/>
          <p:nvPr/>
        </p:nvPicPr>
        <p:blipFill>
          <a:blip r:embed="rId1"/>
          <a:stretch/>
        </p:blipFill>
        <p:spPr>
          <a:xfrm>
            <a:off x="5029200" y="27306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3:35:31Z</dcterms:created>
  <dc:creator>Андрюша</dc:creator>
  <dc:description/>
  <dc:language>en-US</dc:language>
  <cp:lastModifiedBy>k05</cp:lastModifiedBy>
  <dcterms:modified xsi:type="dcterms:W3CDTF">2004-02-05T09:55:04Z</dcterms:modified>
  <cp:revision>26</cp:revision>
  <dc:subject/>
  <dc:title>Кафедра естествознания гимназия №9</dc:title>
</cp:coreProperties>
</file>